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2B5A-DD0C-4373-87E3-823D72AD1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38C9-70F9-4909-A2B9-3529AEA3D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669-92ED-4DD9-937F-216E9CA7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DEF-28B1-48AB-BE83-F61E2763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004-9353-424C-9FB1-4FBFD5D3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872-430E-4790-A8DA-001441BA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9B4-B514-4544-AEA5-C8D40C0E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BC0-DA0F-4374-90A0-1F435505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DD3-8F27-4546-AD99-35C7C9C2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2A0-2717-42EC-A209-1730161C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68D-4E0E-4BE0-BEFF-C7E168F7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EBD-E1A0-4A7C-9179-40B5BB0B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C1C-80C1-4289-A55A-A001BB7B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9A9-063D-4054-B2EE-77833E44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DE0C-76F7-4629-B460-C121DD6D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62120" y="3124080"/>
            <a:ext cx="7848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multiply a monomial and a poly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96388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add the exponent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Simplify:  5(7n - 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• 7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5n -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 When multiplying variable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rc 4"/>
          <p:cNvSpPr/>
          <p:nvPr/>
        </p:nvSpPr>
        <p:spPr>
          <a:xfrm flipH="1">
            <a:off x="5257800" y="2516040"/>
            <a:ext cx="457200" cy="138240"/>
          </a:xfrm>
          <a:custGeom>
            <a:avLst/>
            <a:gdLst/>
            <a:ahLst/>
            <a:rect l="l" t="t" r="r" b="b"/>
            <a:pathLst>
              <a:path fill="none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282" y="25081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rc 5"/>
          <p:cNvSpPr/>
          <p:nvPr/>
        </p:nvSpPr>
        <p:spPr>
          <a:xfrm flipH="1">
            <a:off x="5257080" y="2438280"/>
            <a:ext cx="1219320" cy="228600"/>
          </a:xfrm>
          <a:custGeom>
            <a:avLst/>
            <a:gdLst/>
            <a:ahLst/>
            <a:rect l="l" t="t" r="r" b="b"/>
            <a:pathLst>
              <a:path fill="none" w="43200" h="24314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4314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524840" y="4022640"/>
            <a:ext cx="14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•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12"/>
          <p:cNvGraphicFramePr/>
          <p:nvPr/>
        </p:nvGraphicFramePr>
        <p:xfrm>
          <a:off x="3809880" y="609480"/>
          <a:ext cx="225612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609480"/>
                    <a:ext cx="22561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38862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Simplify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6a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+ 9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Simplif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rs(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-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rs • 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6r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s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- 18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rc 7"/>
          <p:cNvSpPr/>
          <p:nvPr/>
        </p:nvSpPr>
        <p:spPr>
          <a:xfrm flipH="1">
            <a:off x="4313160" y="763560"/>
            <a:ext cx="457200" cy="138240"/>
          </a:xfrm>
          <a:custGeom>
            <a:avLst/>
            <a:gdLst/>
            <a:ahLst/>
            <a:rect l="l" t="t" r="r" b="b"/>
            <a:pathLst>
              <a:path fill="none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282" y="25081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rc 8"/>
          <p:cNvSpPr/>
          <p:nvPr/>
        </p:nvSpPr>
        <p:spPr>
          <a:xfrm flipH="1">
            <a:off x="4313160" y="609480"/>
            <a:ext cx="1370160" cy="363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3049560" y="1676520"/>
          <a:ext cx="1293840" cy="114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560" y="1676520"/>
                    <a:ext cx="129384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3"/>
          <p:cNvGraphicFramePr/>
          <p:nvPr/>
        </p:nvGraphicFramePr>
        <p:xfrm>
          <a:off x="4290840" y="1676520"/>
          <a:ext cx="1590840" cy="114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90840" y="1676520"/>
                    <a:ext cx="159084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4"/>
          <p:cNvSpPr/>
          <p:nvPr/>
        </p:nvSpPr>
        <p:spPr>
          <a:xfrm>
            <a:off x="4394160" y="483084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6rs •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rc 15"/>
          <p:cNvSpPr/>
          <p:nvPr/>
        </p:nvSpPr>
        <p:spPr>
          <a:xfrm flipH="1">
            <a:off x="4038480" y="4191120"/>
            <a:ext cx="609840" cy="139680"/>
          </a:xfrm>
          <a:custGeom>
            <a:avLst/>
            <a:gdLst/>
            <a:ahLst/>
            <a:rect l="l" t="t" r="r" b="b"/>
            <a:pathLst>
              <a:path fill="none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282" y="25081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rc 16"/>
          <p:cNvSpPr/>
          <p:nvPr/>
        </p:nvSpPr>
        <p:spPr>
          <a:xfrm flipH="1">
            <a:off x="4049640" y="4037040"/>
            <a:ext cx="1589040" cy="334800"/>
          </a:xfrm>
          <a:custGeom>
            <a:avLst/>
            <a:gdLst/>
            <a:ahLst/>
            <a:rect l="l" t="t" r="r" b="b"/>
            <a:pathLst>
              <a:path fill="none" w="42578" h="21600">
                <a:moveTo>
                  <a:pt x="0" y="18005"/>
                </a:moveTo>
                <a:cubicBezTo>
                  <a:pt x="1754" y="7609"/>
                  <a:pt x="10756" y="-1"/>
                  <a:pt x="21299" y="0"/>
                </a:cubicBezTo>
                <a:cubicBezTo>
                  <a:pt x="31796" y="0"/>
                  <a:pt x="40773" y="7546"/>
                  <a:pt x="42577" y="17888"/>
                </a:cubicBezTo>
              </a:path>
              <a:path stroke="0" w="42578" h="21600">
                <a:moveTo>
                  <a:pt x="0" y="18005"/>
                </a:moveTo>
                <a:cubicBezTo>
                  <a:pt x="1754" y="7609"/>
                  <a:pt x="10756" y="-1"/>
                  <a:pt x="21299" y="0"/>
                </a:cubicBezTo>
                <a:cubicBezTo>
                  <a:pt x="31796" y="0"/>
                  <a:pt x="40773" y="7546"/>
                  <a:pt x="42577" y="17888"/>
                </a:cubicBezTo>
                <a:lnTo>
                  <a:pt x="21299" y="21600"/>
                </a:lnTo>
                <a:lnTo>
                  <a:pt x="0" y="18005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Simplify:  4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2t -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2t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4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)  Simplify:  - 4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m - 6n + 4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2m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rc 4"/>
          <p:cNvSpPr/>
          <p:nvPr/>
        </p:nvSpPr>
        <p:spPr>
          <a:xfrm flipH="1">
            <a:off x="4497480" y="763560"/>
            <a:ext cx="457200" cy="138240"/>
          </a:xfrm>
          <a:custGeom>
            <a:avLst/>
            <a:gdLst/>
            <a:ahLst/>
            <a:rect l="l" t="t" r="r" b="b"/>
            <a:pathLst>
              <a:path fill="none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282" y="25081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rc 5"/>
          <p:cNvSpPr/>
          <p:nvPr/>
        </p:nvSpPr>
        <p:spPr>
          <a:xfrm flipH="1">
            <a:off x="4498920" y="608040"/>
            <a:ext cx="1736640" cy="334800"/>
          </a:xfrm>
          <a:custGeom>
            <a:avLst/>
            <a:gdLst/>
            <a:ahLst/>
            <a:rect l="l" t="t" r="r" b="b"/>
            <a:pathLst>
              <a:path fill="none" w="42832" h="21600">
                <a:moveTo>
                  <a:pt x="0" y="17776"/>
                </a:moveTo>
                <a:cubicBezTo>
                  <a:pt x="1850" y="7486"/>
                  <a:pt x="10804" y="-1"/>
                  <a:pt x="21259" y="0"/>
                </a:cubicBezTo>
                <a:cubicBezTo>
                  <a:pt x="32765" y="0"/>
                  <a:pt x="42252" y="9020"/>
                  <a:pt x="42831" y="20512"/>
                </a:cubicBezTo>
              </a:path>
              <a:path stroke="0" w="42832" h="21600">
                <a:moveTo>
                  <a:pt x="0" y="17776"/>
                </a:moveTo>
                <a:cubicBezTo>
                  <a:pt x="1850" y="7486"/>
                  <a:pt x="10804" y="-1"/>
                  <a:pt x="21259" y="0"/>
                </a:cubicBezTo>
                <a:cubicBezTo>
                  <a:pt x="32765" y="0"/>
                  <a:pt x="42252" y="9020"/>
                  <a:pt x="42831" y="20512"/>
                </a:cubicBezTo>
                <a:lnTo>
                  <a:pt x="21259" y="21600"/>
                </a:lnTo>
                <a:lnTo>
                  <a:pt x="0" y="17776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rc 6"/>
          <p:cNvSpPr/>
          <p:nvPr/>
        </p:nvSpPr>
        <p:spPr>
          <a:xfrm flipH="1">
            <a:off x="4495680" y="608040"/>
            <a:ext cx="2578320" cy="334800"/>
          </a:xfrm>
          <a:custGeom>
            <a:avLst/>
            <a:gdLst/>
            <a:ahLst/>
            <a:rect l="l" t="t" r="r" b="b"/>
            <a:pathLst>
              <a:path fill="none" w="42973" h="21600">
                <a:moveTo>
                  <a:pt x="0" y="18665"/>
                </a:moveTo>
                <a:cubicBezTo>
                  <a:pt x="1467" y="7969"/>
                  <a:pt x="10604" y="-1"/>
                  <a:pt x="21400" y="0"/>
                </a:cubicBezTo>
                <a:cubicBezTo>
                  <a:pt x="32906" y="0"/>
                  <a:pt x="42393" y="9020"/>
                  <a:pt x="42972" y="20512"/>
                </a:cubicBezTo>
              </a:path>
              <a:path stroke="0" w="42973" h="21600">
                <a:moveTo>
                  <a:pt x="0" y="18665"/>
                </a:moveTo>
                <a:cubicBezTo>
                  <a:pt x="1467" y="7969"/>
                  <a:pt x="10604" y="-1"/>
                  <a:pt x="21400" y="0"/>
                </a:cubicBezTo>
                <a:cubicBezTo>
                  <a:pt x="32906" y="0"/>
                  <a:pt x="42393" y="9020"/>
                  <a:pt x="42972" y="20512"/>
                </a:cubicBezTo>
                <a:lnTo>
                  <a:pt x="21400" y="21600"/>
                </a:lnTo>
                <a:lnTo>
                  <a:pt x="0" y="18665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204440" y="1812960"/>
            <a:ext cx="116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 8t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500080" y="1812960"/>
            <a:ext cx="130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 20t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rc 9"/>
          <p:cNvSpPr/>
          <p:nvPr/>
        </p:nvSpPr>
        <p:spPr>
          <a:xfrm flipH="1">
            <a:off x="4649760" y="3048120"/>
            <a:ext cx="836640" cy="187200"/>
          </a:xfrm>
          <a:custGeom>
            <a:avLst/>
            <a:gdLst/>
            <a:ahLst/>
            <a:rect l="l" t="t" r="r" b="b"/>
            <a:pathLst>
              <a:path fill="none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</a:path>
              <a:path stroke="0" w="43200" h="25082">
                <a:moveTo>
                  <a:pt x="282" y="25081"/>
                </a:moveTo>
                <a:cubicBezTo>
                  <a:pt x="94" y="23930"/>
                  <a:pt x="0" y="227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507"/>
                  <a:pt x="-22394" y="23413"/>
                  <a:pt x="-22508" y="24313"/>
                </a:cubicBezTo>
                <a:lnTo>
                  <a:pt x="21600" y="21600"/>
                </a:lnTo>
                <a:lnTo>
                  <a:pt x="282" y="25081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rc 10"/>
          <p:cNvSpPr/>
          <p:nvPr/>
        </p:nvSpPr>
        <p:spPr>
          <a:xfrm flipH="1">
            <a:off x="4651200" y="2941560"/>
            <a:ext cx="2052720" cy="335160"/>
          </a:xfrm>
          <a:custGeom>
            <a:avLst/>
            <a:gdLst/>
            <a:ahLst/>
            <a:rect l="l" t="t" r="r" b="b"/>
            <a:pathLst>
              <a:path fill="none" w="42832" h="21600">
                <a:moveTo>
                  <a:pt x="0" y="17776"/>
                </a:moveTo>
                <a:cubicBezTo>
                  <a:pt x="1850" y="7486"/>
                  <a:pt x="10804" y="-1"/>
                  <a:pt x="21259" y="0"/>
                </a:cubicBezTo>
                <a:cubicBezTo>
                  <a:pt x="32765" y="0"/>
                  <a:pt x="42252" y="9020"/>
                  <a:pt x="42831" y="20512"/>
                </a:cubicBezTo>
              </a:path>
              <a:path stroke="0" w="42832" h="21600">
                <a:moveTo>
                  <a:pt x="0" y="17776"/>
                </a:moveTo>
                <a:cubicBezTo>
                  <a:pt x="1850" y="7486"/>
                  <a:pt x="10804" y="-1"/>
                  <a:pt x="21259" y="0"/>
                </a:cubicBezTo>
                <a:cubicBezTo>
                  <a:pt x="32765" y="0"/>
                  <a:pt x="42252" y="9020"/>
                  <a:pt x="42831" y="20512"/>
                </a:cubicBezTo>
                <a:lnTo>
                  <a:pt x="21259" y="21600"/>
                </a:lnTo>
                <a:lnTo>
                  <a:pt x="0" y="17776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rc 11"/>
          <p:cNvSpPr/>
          <p:nvPr/>
        </p:nvSpPr>
        <p:spPr>
          <a:xfrm flipH="1">
            <a:off x="4648320" y="2941560"/>
            <a:ext cx="3047760" cy="335160"/>
          </a:xfrm>
          <a:custGeom>
            <a:avLst/>
            <a:gdLst/>
            <a:ahLst/>
            <a:rect l="l" t="t" r="r" b="b"/>
            <a:pathLst>
              <a:path fill="none" w="42973" h="21600">
                <a:moveTo>
                  <a:pt x="0" y="18665"/>
                </a:moveTo>
                <a:cubicBezTo>
                  <a:pt x="1467" y="7969"/>
                  <a:pt x="10604" y="-1"/>
                  <a:pt x="21400" y="0"/>
                </a:cubicBezTo>
                <a:cubicBezTo>
                  <a:pt x="32906" y="0"/>
                  <a:pt x="42393" y="9020"/>
                  <a:pt x="42972" y="20512"/>
                </a:cubicBezTo>
              </a:path>
              <a:path stroke="0" w="42973" h="21600">
                <a:moveTo>
                  <a:pt x="0" y="18665"/>
                </a:moveTo>
                <a:cubicBezTo>
                  <a:pt x="1467" y="7969"/>
                  <a:pt x="10604" y="-1"/>
                  <a:pt x="21400" y="0"/>
                </a:cubicBezTo>
                <a:cubicBezTo>
                  <a:pt x="32906" y="0"/>
                  <a:pt x="42393" y="9020"/>
                  <a:pt x="42972" y="20512"/>
                </a:cubicBezTo>
                <a:lnTo>
                  <a:pt x="21400" y="21600"/>
                </a:lnTo>
                <a:lnTo>
                  <a:pt x="0" y="18665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3519360" y="447984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 24m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5463000" y="4479840"/>
            <a:ext cx="18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 16m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)  Simplify:       (27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6x + 1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6x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- 28x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4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oled ya, didn’t I?!? Ha! H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e’s the real answ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9x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x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- 4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4000680" y="723960"/>
          <a:ext cx="64764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723960"/>
                    <a:ext cx="6476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4y(3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4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rShape1"/>
          <p:cNvSpPr/>
          <p:nvPr/>
        </p:nvSpPr>
        <p:spPr>
          <a:xfrm rot="10800000">
            <a:off x="161640" y="411588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-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2x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rShape1"/>
          <p:cNvSpPr/>
          <p:nvPr/>
        </p:nvSpPr>
        <p:spPr>
          <a:xfrm rot="10800000">
            <a:off x="-66600" y="192060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Cynthia H. Morgan</cp:lastModifiedBy>
  <dcterms:modified xsi:type="dcterms:W3CDTF">2013-03-14T14:25:09Z</dcterms:modified>
  <cp:revision>13</cp:revision>
  <dc:subject/>
  <dc:title>Multiplying a Monomial and Polynomials</dc:title>
</cp:coreProperties>
</file>